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EBE1C-88C8-46AA-931A-9567BF367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F8FB3-BBA5-4435-9316-CEC409D8F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CA639-56B1-48D3-9B2F-947DCE32F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BBF9F-9EE6-460C-995F-FD27B2059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1C35F-5E76-4F2C-B966-95C156B30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B415C-DFE8-4884-9855-E45D45BBB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0E711-A3F8-45C8-A4D1-9FA17F2D4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63044-9475-4525-8A5F-C53D14667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DA8C2-8090-4A30-A81F-310D797D7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B8528-2C2E-48BC-A175-C7999441E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F4FA9-0A5C-4646-8E5A-B2BAE4F77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7331F-A5A2-42C7-B578-5E36E2DBE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500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9DF52-9878-4F2A-AC81-A04FF935C0B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afondazione.com/images/contenuti/comunicazione/logo/logo.pdf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a500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Il bilancio d’esercizio 2009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26560" y="4292640"/>
            <a:ext cx="7417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contro con la Stamp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9 aprile 20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" descr="scarica il logo .pd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00000" cy="7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500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1d1cb"/>
                </a:solidFill>
                <a:latin typeface="Arial"/>
              </a:rPr>
              <a:t>Quadro Economico e Finanziario </a:t>
            </a:r>
            <a:endParaRPr b="0" lang="en-US" sz="3200" spc="-1" strike="noStrike">
              <a:solidFill>
                <a:srgbClr val="d1d1cb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3960720"/>
            <a:ext cx="4284720" cy="29242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40320" y="3284640"/>
            <a:ext cx="379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iusura di borsa del 9 marzo 200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211640" y="3976560"/>
            <a:ext cx="4932360" cy="29084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4341600" y="3284640"/>
            <a:ext cx="415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iusura di borsa al 31 dicembre 2009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0920" y="693720"/>
            <a:ext cx="87138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el 2009 i mercati finanziari hanno adottato due visuali diametralmente oppost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l primo trimestre è stato caratterizzato da condizioni di elevata volatilità in un contesto di generale decrescita delle economie mondiali. Il trimestre chiudeva con il segno negativo su tutti i mercati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 i trimestri successivi hanno evidenziato una crescita violenta tanto che tutti gli strumenti finanziari hanno abbondantemente recuperato le perdite dei primi mesi dell’ann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32000" y="3573360"/>
            <a:ext cx="503280" cy="251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7885080" y="3573360"/>
            <a:ext cx="432000" cy="201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a500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9280" y="-100080"/>
            <a:ext cx="79930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1d1cb"/>
                </a:solidFill>
                <a:latin typeface="Arial"/>
              </a:rPr>
              <a:t>La gestione Patrimoniale</a:t>
            </a:r>
            <a:endParaRPr b="0" lang="en-US" sz="40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79280" y="4941720"/>
            <a:ext cx="8640720" cy="18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Gli investimenti fruttiferi, al 31.12.2009 ammontavano a circa 404 milioni di euro suddivisi fra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bbligazioni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0 milioni di euro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ecipazioni azionarie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28 milioni di euro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ivate equity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15 milioni di euro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ndi e polizze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57 milioni di eur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iquidità e immobili da reddito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4 milioni di eur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064880" y="4738680"/>
            <a:ext cx="1733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Dati in milioni di eur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044720" y="431640"/>
            <a:ext cx="7056360" cy="43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a500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1d1cb"/>
                </a:solidFill>
                <a:latin typeface="Arial"/>
              </a:rPr>
              <a:t>La gestione Economica</a:t>
            </a:r>
            <a:endParaRPr b="0" lang="en-US" sz="40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ricavi netti della gestione finanziaria sono pari a oltre 13 milioni di euro mentre i costi operativi e di gestione sono scesi sotto 1,6 milioni di eur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79280" y="4581360"/>
            <a:ext cx="87854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Il rendimento lordo degli investimenti si è attestato al 3,6%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Le contribuzioni più significative al rendimento della gestione finanziaria sono rappresentate dai dividendi delle partecipazioni azionarie in ENEL e Cassa Depositi e Prestiti, dal dividendo erogato dal fondo immobiliare F.I.P., dagli interessi relativi alle obbligazioni strutturat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84360" y="4221000"/>
            <a:ext cx="206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Valori in migliaia di eur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755640" y="2349360"/>
            <a:ext cx="7704000" cy="18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500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896472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1d1cb"/>
                </a:solidFill>
                <a:latin typeface="Arial"/>
              </a:rPr>
              <a:t>Avanzo di Gestione: € 10.709.841,44 + 3% su 2008</a:t>
            </a:r>
            <a:endParaRPr b="0" lang="en-US" sz="2800" spc="-1" strike="noStrike">
              <a:solidFill>
                <a:srgbClr val="d1d1cb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971640" y="1003320"/>
            <a:ext cx="7200720" cy="58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a500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44280"/>
            <a:ext cx="822960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1d1cb"/>
                </a:solidFill>
                <a:latin typeface="Arial"/>
              </a:rPr>
              <a:t>La gestione Economica</a:t>
            </a:r>
            <a:endParaRPr b="0" lang="en-US" sz="40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1483920"/>
            <a:ext cx="2340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Risultati sostanziali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Incremento* del   patrimonio di oltre 3 milioni di euro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Aumento* di quasi 5 milioni  delle Font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*(al netto di eventi di natura straordinaria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808320" y="5661000"/>
            <a:ext cx="229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ati in milioni di eur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195640" y="954000"/>
            <a:ext cx="6948360" cy="47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7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a500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535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Grazie per l’attenzione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2T16:35:36Z</dcterms:created>
  <dc:creator>massimo sbordi</dc:creator>
  <dc:description/>
  <dc:language>en-US</dc:language>
  <cp:lastModifiedBy>sbordi</cp:lastModifiedBy>
  <dcterms:modified xsi:type="dcterms:W3CDTF">2010-04-28T14:37:17Z</dcterms:modified>
  <cp:revision>67</cp:revision>
  <dc:subject/>
  <dc:title>Il bilancio d’esercizio del 2005</dc:title>
</cp:coreProperties>
</file>