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0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1.jpeg" ContentType="image/jpeg"/>
  <Override PartName="/ppt/media/image23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6.wmf" ContentType="image/x-wmf"/>
  <Override PartName="/ppt/media/image32.png" ContentType="image/pn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28.wmf" ContentType="image/x-wmf"/>
  <Override PartName="/ppt/media/image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CD0-00A2-4263-99D6-F8E932AA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C72-2920-42B2-A744-9C3887C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954-5717-4D7A-80A3-4A4B8A1E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056-34BA-4343-B5AC-7F3F454E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B39-7BCB-4D3E-A3CB-1C81475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2FB-C459-43DD-8CAF-FEDF63E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7E0-4DB3-489D-B629-A8F11073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C1E-22BB-4F1B-81C2-2683EF8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CA9-66E8-4722-8466-AC2E8D5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C77-E97A-44E2-92AB-BE3E1A5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2F0-21E4-4F27-8303-7EDF0CA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675-8F43-4B2F-B5FB-E55C3EB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4AD-F290-4172-8EA8-43777CEC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ANCI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okman Old Style"/>
              </a:rPr>
              <a:t>La Fondazione di Piacenza e Vigev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Facciata del Palazzo Rota Pisaroni"/>
          <p:cNvPicPr/>
          <p:nvPr/>
        </p:nvPicPr>
        <p:blipFill>
          <a:blip r:embed="rId2"/>
          <a:stretch/>
        </p:blipFill>
        <p:spPr>
          <a:xfrm>
            <a:off x="3203640" y="184464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 domande accolte sul tot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2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3029040"/>
          <a:ext cx="3809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29040"/>
                    <a:ext cx="3809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7054920" cy="417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908000" y="5373720"/>
            <a:ext cx="5256360" cy="4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Percentuali : domande accolte</a:t>
            </a:r>
            <a:r>
              <a:rPr b="0" lang="en-US" sz="1800" spc="-1" strike="noStrike">
                <a:solidFill>
                  <a:srgbClr val="0066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(3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Suddivisione impegni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pluriennali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annuali e annuali ricorr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616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rogetti pluriennal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173480" cy="238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240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rogetti annuali ricorr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814560" cy="238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743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85800" y="609480"/>
            <a:ext cx="7772400" cy="2532240"/>
            <a:chOff x="685800" y="609480"/>
            <a:chExt cx="7772400" cy="25322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609480"/>
              <a:ext cx="7772400" cy="25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685800" y="609480"/>
              <a:ext cx="7772400" cy="253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7775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Principali Interventi realizzati nei sett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arte, attività e beni cultur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Conservazione e valorizzazione beni storico-artistici : € 572. 6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duzioni artistiche e letterarie : € 98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ttività culturali,conferenze, mostre e iniziative editoriali : € 363.247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Educazione, istruzione e 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struzione superiore (dottorati, master)  : € 702.75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deguamento strutture scolastiche e universitarie : € 32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niziative formative di varie natura  : € 42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Ricerca scientifica e tecnologica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ricerca sperimentale : € 320.5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specifici in campo  medico  : € 421.666,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Assistenza anzia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nterventi strutturali di adeguamento  : € 400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cquisto attrezzature e arredi : € 112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specifici ricreativi e assistenziali : 419.8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Volontariato, beneficenza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realizzati   : € 422.5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Famiglia e valori conn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deguamento strutture : € 235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realizzazione progetti specifici : € 154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1530360" cy="396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8000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072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rte, attività e beni culturali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Conservazione e valorizzazione beni storico-artistici e archeologici : € 572.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e di Piacenza e provincia (restauri) : € 236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e di Vigevano (restauri) :€  6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Diocesi di Piacenza (inventariazione beni  ecclesiastici) : € 115.000 ( es. 2007/2011 tot. 495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ea archeogica di Travo ( Comune e ass.ne Minerva) : € 47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Castel San Giovanni (rifunzionalizzazione Villa Braghieri): € 42.000 ( es. 2008-2009 tot.€84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ura farnesiane( interventi di pulizia)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duzioni artistiche e letterarie : € 98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Municipale di Piacenza (stagione) : € 3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Cagnoni di Vigevano : € 1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Verdi Di Fiorenzuola : € 8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Verdi di Castel  San Giovann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ValTidone Festival : € 2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Jazz Festival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stival Diritto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Arti visive e attività museali e attività culturali : 363.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ra” Pittura toscana alla Ricci Oddi “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ditorium e attività culturali : € 2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2521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ducazione, istruzione e formazione :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progetti significativ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Istruzione superiore universitaria e post universitaria : € 702.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ff0000"/>
                </a:solidFill>
                <a:latin typeface="Times New Roman"/>
              </a:rPr>
              <a:t>Università Cattolica – Agroalimentare : € 612.750 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( es. 2006-2012 tot.€  2.651.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iversità Cattolica – dottorato di ricerca : € 6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olitecnico – borse di studio architettura : € 3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Adeguamento strutture scolastiche  : € 32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ff0000"/>
                </a:solidFill>
                <a:latin typeface="Times New Roman"/>
              </a:rPr>
              <a:t>Politecnico – allestimento laboratori : € 300.000 ( 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es. 2006-2010 tot.€  1.500.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t. San Benedetto – lavagne multimedial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t. Mattei di Fiorenzuola - lavagne multimediali : € 6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Liceo M.Gioia -lavagne multimediali : € 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Iniziative formative : €34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zienda Tadini – ristorante didattico : € 9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Teatro Gioco Vita – Informazione Teatrale : € 6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Bobbio – laboratorio cinema Bellocchio : € 5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Fondazione ValTidone Festival : € 4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Jazz Festival : € 4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Vigevano (Ist. Costa) – laboratori musicali : € 1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mm.ne provinciale Piacenza – iniz. formative per i  giovan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Progetti specifici  : 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Parrocchia S.Brigida – iniz. per i giovani  € 2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ss.ne Fuori serie – progetto diverso da ch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ss.ne Barriera Vigevano – formazioen culturale : € 1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Biblioteche, Archivi, Musei  € 16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Biblioteca Giana Anguissola – sostegno attività  : € 8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Pontenure – allestimento biblioteca : € 8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136520" cy="93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14079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icerca scientifica e tecnologica 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getti specifici  (ricerca sperimentale/campo medico) : € 742.166,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zienda AUSL Piacenza - Cellule staminali :  € 200.000 (es. 2003/2009 tot.1.1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zienda AUSL Piacenza/Pavia  – Morbo di Parkinson :  € 126.666,67 (es.2008/2010 tot. 38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di Piacenza e Vigevano – Housing sociale : € 1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itecnico – Polipiacenza : € 100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T Vigevano – progetto cultura e innovazione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 Beato Matteo Pavia (Vigevano) – marcatori osteoporos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zienda AUSL Piacenza – screening carcinoma colon-retto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48360" y="765000"/>
            <a:ext cx="1047960" cy="93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8000" y="765000"/>
            <a:ext cx="9748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Fondazione  di  Piacenza e Vigevano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è  una Fondazione di origine bancaria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E’ stata istituita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il 24 dicembre 199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ed  è  la  continuazione ideale della Cassa di Risparmio di Piacenza e Vigevano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 Fondazione  ha origine dal  processo  di riforma del sistema bancario : 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Legge Amato del 1990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Facciata della Sede"/>
          <p:cNvPicPr/>
          <p:nvPr/>
        </p:nvPicPr>
        <p:blipFill>
          <a:blip r:embed="rId1"/>
          <a:stretch/>
        </p:blipFill>
        <p:spPr>
          <a:xfrm>
            <a:off x="684360" y="620640"/>
            <a:ext cx="382572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ffresco Auditorium"/>
          <p:cNvPicPr/>
          <p:nvPr/>
        </p:nvPicPr>
        <p:blipFill>
          <a:blip r:embed="rId2"/>
          <a:stretch/>
        </p:blipFill>
        <p:spPr>
          <a:xfrm>
            <a:off x="4500720" y="620640"/>
            <a:ext cx="39589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istenza agli anziani 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Costruzioni e ristrutturazioni immobili: €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Unicoop – riconversione struttura : € 200.000 (es. 2007/2009 tot. 5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nsorzio Farini – Ferriere  : € 100.000 (es. 2006/2009 tot. 4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Vernasca – adeguamento struttura  : € 100.000 (es.2009-2011 tot.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Acquisto arredi ed attrezzature :  € 11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donna della Bomba  :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 Archieri, Moruzzi, Boriani Monticelli d’Ongina : 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Prospero Verani 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Vigevano – Ist. De Rodolfi : € 1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Altri interventi  : € 83.028,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Opera Pia S.Chiara : € 73.028,74 (es.  2003/20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era Pia Castelli Comune di Ottone 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Progetti specifici  :€ 321.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a S.Vittore – sistemazione fabbricato:  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lo Anspi Cattaragna – sistemazione circolo  : € 4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Borgonovo / Ist. Andreoli – Hospice  : € 4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Vigevano – progetto Solleone : € 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di Piacenza e Vigevano – musicoterapia : € 24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 . Vassalli Remondini- acquisto autovettura per trasporto anziani : € 2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Cerignale – taxi sociale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Cortebrugnatella – acquisto autovettura  per trasporto anziani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Nibbiano – acquisto autovettura per trasporto anziani  :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9367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amiglia e valori connessi  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Interventi di adeguamento delle strutture : € 2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Gossolengo – asilo  : € 120.000 (es. 2007/2009 tot. 34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Travo – asilo nido  : € 100.000 (es. 2007/2009 tot. 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Gossolengo – mensa scolastica   : € 15.000 (2007/2009 tot. 45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getti specifici  : € 15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ocesi di Piacenza – Fondo solidarietà sociale :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rdine dei Cappuccini Vigevano – iniz. a favore della povertà 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Borgonovo – attività laboratori persone svantaggiate  : € 24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 comprensivo Cadeo -  nuove tecnologie per disabili 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Aias  Piacenza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Aias Vigevano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1079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lantropia, Beneficenza,Volontariato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Interventi di promozione diretti al sostegno del volontariato  : € 422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ss.ne Assofa – realizzazione nuova sede : € 100.000 (es.2009/2011 tot. 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RI (ass.ne Casse e Fondazioni) -  interventi  a favore delle popolazioni dell’Abruzzo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derazione Le Stelle -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ritas – persone senza fissa dimora : € 4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Pia Pozzoli – percorsi di residenzialità per soggetti disabil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piacentina leucemie – assistenza domiciliare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ordinamento volontariato Vigevano – iniz. varie : € 12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frica Mission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famiglie disabili – sostegno attivita: € 8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10317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ttori famiglia/volontariato/anziani : importi totali deliber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le deliberato a favore degli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asili e nidi  di Piacenza e provincia es. 2007/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tot. €  1.19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</a:rPr>
              <a:t>(es. Travo/Calendasco/Pianello/Gossolengo/Lugagnano/Vigolzone,Soarza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le deliberato a favore degli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anziani (case di riposo)  di Piacenza e provincia es. 2005/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tot. € 3.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imes New Roman"/>
              </a:rPr>
              <a:t>(es. Unicoop, Consorzio Farini-Ferriere, Comune di Vernasca, Maruffi, Madonna Bomba, Andreoli, Albesani, Prospero Verani,Giovanni XIII, Vassalli Remondini,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rogazioni deliberate sui territori di Piacenza e Vigevano dal 1991 al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2071800"/>
            <a:ext cx="5905440" cy="3933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23558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87640" y="198108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e fondazioni di origine bancaria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Bookman Old Style"/>
              </a:rPr>
              <a:t>sono  soggetti   non profit, privati e autonomi</a:t>
            </a:r>
            <a:r>
              <a:rPr b="0" lang="en-US" sz="1600" spc="-1" strike="noStrike">
                <a:solidFill>
                  <a:srgbClr val="cc0000"/>
                </a:solidFill>
                <a:latin typeface="Bookman Old Style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che  perseguono  esclusivamente  scopi  di utilità sociale e di promozione dello sviluppo economico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en-US" sz="1600" spc="-1" strike="noStrike">
                <a:solidFill>
                  <a:srgbClr val="cc0000"/>
                </a:solidFill>
                <a:latin typeface="Bookman Old Style"/>
              </a:rPr>
              <a:t>Le Fondazioni bancarie sono 8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’attività istituzional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ndazione di Piacenza e Vigevano 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sercizio 2009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078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Settori d’Intervento Istituzionale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    </a:t>
            </a:r>
            <a:br>
              <a:rPr sz="2400"/>
            </a:b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Le percentuali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79640" y="1557360"/>
          <a:ext cx="566424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6424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Ripartizione delle riso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77080" cy="14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e risorse erogate nell’esercizi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151128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700280"/>
            <a:ext cx="396072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43280" y="378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124000" y="3789360"/>
            <a:ext cx="863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72000" y="378936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80000" y="3789360"/>
            <a:ext cx="86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435640" y="3789360"/>
            <a:ext cx="792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227640" y="3789360"/>
            <a:ext cx="865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ipartizione erogazioni effettiv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2478240"/>
            <a:ext cx="223236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87280" y="2236680"/>
            <a:ext cx="417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Bookman Old Style"/>
              </a:rPr>
              <a:t>n. richieste esaminate dal C.d.A  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Bookman Old Style"/>
              </a:rPr>
              <a:t>nell’anno 2009</a:t>
            </a:r>
            <a:r>
              <a:rPr b="0" lang="it-IT" sz="1400" spc="-1" strike="noStrike">
                <a:solidFill>
                  <a:srgbClr val="cc0000"/>
                </a:solidFill>
                <a:latin typeface="Bookman Old Style"/>
              </a:rPr>
              <a:t> : </a:t>
            </a:r>
            <a:r>
              <a:rPr b="1" lang="it-IT" sz="2000" spc="-1" strike="noStrike" u="sng">
                <a:solidFill>
                  <a:srgbClr val="cc0000"/>
                </a:solidFill>
                <a:uFillTx/>
                <a:latin typeface="Bookman Old Style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791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3809880" cy="3463920"/>
        </p:xfrm>
        <a:graphic>
          <a:graphicData uri="http://schemas.openxmlformats.org/drawingml/2006/table">
            <a:tbl>
              <a:tblPr/>
              <a:tblGrid>
                <a:gridCol w="2008080"/>
                <a:gridCol w="1801800"/>
              </a:tblGrid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edu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volontari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famig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ltri sett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nzi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rice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Totale comples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2447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3:08:39Z</dcterms:created>
  <dc:creator>giorgia</dc:creator>
  <dc:description/>
  <dc:language>en-US</dc:language>
  <cp:lastModifiedBy>Fondazione Piacenza e Vigevano</cp:lastModifiedBy>
  <dcterms:modified xsi:type="dcterms:W3CDTF">2010-04-28T17:18:56Z</dcterms:modified>
  <cp:revision>254</cp:revision>
  <dc:subject/>
  <dc:title>PRESENTAZIONE</dc:title>
</cp:coreProperties>
</file>